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9B990F-DD1A-4C33-A54B-FAF2CA29BE6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789360" y="696960"/>
            <a:ext cx="2470320" cy="1787400"/>
          </a:xfrm>
          <a:prstGeom prst="rect">
            <a:avLst/>
          </a:prstGeom>
          <a:ln w="0">
            <a:noFill/>
          </a:ln>
        </p:spPr>
      </p:sp>
      <p:sp>
        <p:nvSpPr>
          <p:cNvPr id="178" name="PlaceHolder 2"/>
          <p:cNvSpPr>
            <a:spLocks noGrp="1"/>
          </p:cNvSpPr>
          <p:nvPr>
            <p:ph type="body"/>
          </p:nvPr>
        </p:nvSpPr>
        <p:spPr>
          <a:xfrm>
            <a:off x="701280" y="2555640"/>
            <a:ext cx="5607000" cy="6043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SAN: THAT’S RIGHT KIM. </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 BEGAN THIS EXPLORATION MANY, MANY MONTHS AGO BY CREATING CROSS-WALKS BETWEEN THE GPS AND THE CCPGS IN AN EFFORT TO IDENTIFY AREAS OF CORRESPONDENCE, AND THAT WAS A USEFUL EXERCISE, BUT WE REALLY HAVE MOVED BEYOND THAT. THERE IS NO “ONE-TO-ONE” CORRESPONDENCE BETWEEN THE OLD AND NEW STANDARDS</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SLIDES</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POINT IN ADOPTING NEW STANDARDS IF THEY ARE IDENTICAL WITH NEW LETTERS </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TRANSITION DOCUMENTS WE HAVE PREPARED FOR YOU REALLY REFLECT THAT AND YOU HAVE SOME SAMPLE PAGES IN YOUR RESOURCE PACKET ON PAGEs 12 and 13</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 WHILE THERE ARE CLEARLY LARGE AREAS OF CORRESPONDENCE IN YOUR GRADE LEVEL GPS AND CCGPS, THERE ARE IMPORTANT SHIFTS AND TRANSITION TO BE EXPLORED. IN FACT, FOR GEORGIA, WE HAVE IDENTIFIED FIVE MAJOR CONCEPTUAL TRANSITIONS WE WILL MAKE WITH COMMON CORE AND WE’RE GOING TO DEMONSTRATE THOSE FOR YOU TODAY</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0B167E-9410-41D9-AD3A-694303BBDB9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130560" y="542880"/>
            <a:ext cx="749160" cy="541440"/>
          </a:xfrm>
          <a:prstGeom prst="rect">
            <a:avLst/>
          </a:prstGeom>
          <a:ln w="0">
            <a:noFill/>
          </a:ln>
        </p:spPr>
      </p:sp>
      <p:sp>
        <p:nvSpPr>
          <p:cNvPr id="181" name="PlaceHolder 2"/>
          <p:cNvSpPr>
            <a:spLocks noGrp="1"/>
          </p:cNvSpPr>
          <p:nvPr>
            <p:ph type="body"/>
          </p:nvPr>
        </p:nvSpPr>
        <p:spPr>
          <a:xfrm>
            <a:off x="701280" y="1161720"/>
            <a:ext cx="5607000" cy="7437240"/>
          </a:xfrm>
          <a:prstGeom prst="rect">
            <a:avLst/>
          </a:prstGeom>
          <a:noFill/>
          <a:ln w="0">
            <a:noFill/>
          </a:ln>
        </p:spPr>
        <p:txBody>
          <a:bodyPr lIns="93240" rIns="9324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I SEE THAT THIS TRANSITION IS GOING TO BE ABOUT VOCABULARY – HOW IS VOCABULARY STUDY GOING TO CHANG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IT IS TIED IN MANY WAYS TO THE INCREASED FOCUS ON INFORMATIONAL AND ACADEMIC TEXTS THAT WE ARE FINDING OUR STUDENTS UNABLE TO EFFECTIVELY NEGOTIATE. WE HAVE TRADITIONALLY FOCUSED ON LITERARY TERMS, FOR EXAMPLE HYPERBOLE AND ONOMATOPOEIA. WE NEED TO INCLUDE MORE DOMAIN SPECIFIC AND ACADEMIC VOCABULAR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CAN YOU GIVE ME AN EXAMPLE OF WHAT YOU MEA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WELL, THERE ARE TWO KINDS OF WORDS WE ARE TALKING ABOUT. LET’S START WITH JUST GENERAL DOMAIN-SPECIFIC WORDS FROM SCIENCE, SOCIAL STUDIES, MATH, ELA, OR ANY OTHER CONTENT AREA.  WHAT IS A BOOK IN GRADE 6 THAT WE MIGHT REALLY ENJOY PULLING A VOCABULARY STUDY OUT OF?</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WELL, LET’S TAKE THE HOBBIT, FOR AN EXAMPLE. (LIST WORDS)  AND HERE ARE A FEW FROM HOLES. </a:t>
            </a:r>
            <a:r>
              <a:rPr b="0" lang="en-US" sz="1100" spc="-1" strike="noStrike">
                <a:solidFill>
                  <a:srgbClr val="ff0000"/>
                </a:solidFill>
                <a:latin typeface="Times New Roman"/>
              </a:rPr>
              <a:t> FLIPCHART PAGE 14</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OKAY, NOW LET’S WIDEN THAT CIRCLE A LITTLE. SOME OF THE INFORMATIONAL ITEMS YOU MIGHT BE LOOKING AT ALONG WITH THE HOBBIT COULD INCLUDE TOLKIEN’ WORK AT OXFORD UNIVERSITY, HIS USE OF MIDDLE AND OLD ENGLISH IN CREATING HIS LANGUAGES IN THE HOBBIT AND LORD OF THE RINGS, HIS EXPLORATIONS OF ANGLO-SAXON HISTORY AND LANGUAGE, AND WELSH.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AND WHAT ARE SOME ACADEMIC CONNECTIONS IN HOLE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HOW ABOUT DESERT BIOMES, THE JUVENILLE JUSTIC SYSTEM, IN TALKING ABOUT THE LIZARDS WE COULD IDENTIFY THINGS LIKE GENUS AND SPEC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T REMEMBER I SAID THERE WERE REALLY TWO KINDS OF WORDS WE WERE TALKING ABOUT?  STUDENTS ALSO NEED TO BE MORE FAMILIAR WITH ACADEMIC TERMS IN GENERAL, WORDS LIKE “ANALYSIS,” (WRITE THESE ON THE LIST ON THE SMART BOARD AS WELL) “ABSTRACT.” “EXCERPT,” “COMPILE,” “FORMULATE,”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I FOUND A GOOD LIST OF THESE WORDS THAT WE CAN PUT IN THE RESOURCE PACKET IF YOU WAN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DCF060-6023-4F10-8669-B5041107925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96920" y="698400"/>
            <a:ext cx="4816440" cy="3486240"/>
          </a:xfrm>
          <a:prstGeom prst="rect">
            <a:avLst/>
          </a:prstGeom>
          <a:ln w="0">
            <a:noFill/>
          </a:ln>
        </p:spPr>
      </p:sp>
      <p:sp>
        <p:nvSpPr>
          <p:cNvPr id="18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N THIS ARE ON NEXT SLIDE, SO MOVE FORWARD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24F4EC-18A4-4D80-9052-55FE8E842A0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666880" y="696960"/>
            <a:ext cx="1676520" cy="1212840"/>
          </a:xfrm>
          <a:prstGeom prst="rect">
            <a:avLst/>
          </a:prstGeom>
          <a:ln w="0">
            <a:noFill/>
          </a:ln>
        </p:spPr>
      </p:sp>
      <p:sp>
        <p:nvSpPr>
          <p:cNvPr id="172" name="PlaceHolder 2"/>
          <p:cNvSpPr>
            <a:spLocks noGrp="1"/>
          </p:cNvSpPr>
          <p:nvPr>
            <p:ph type="body"/>
          </p:nvPr>
        </p:nvSpPr>
        <p:spPr>
          <a:xfrm>
            <a:off x="701280" y="1986120"/>
            <a:ext cx="5607000" cy="661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M SPEAK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LSE CAN YOU TELL US ABOUT COMMON CORE SUSAN?</a:t>
            </a:r>
            <a:endParaRPr b="0" lang="en-US" sz="2400" spc="-1" strike="noStrike">
              <a:solidFill>
                <a:srgbClr val="000000"/>
              </a:solidFill>
              <a:latin typeface="Times New Roman"/>
            </a:endParaRPr>
          </a:p>
        </p:txBody>
      </p:sp>
      <p:sp>
        <p:nvSpPr>
          <p:cNvPr id="17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166529-AC40-4B4E-9E6F-9E3D2B23911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96920" y="698400"/>
            <a:ext cx="4816440" cy="3486240"/>
          </a:xfrm>
          <a:prstGeom prst="rect">
            <a:avLst/>
          </a:prstGeom>
          <a:ln w="0">
            <a:noFill/>
          </a:ln>
        </p:spPr>
      </p:sp>
      <p:sp>
        <p:nvSpPr>
          <p:cNvPr id="17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9C1298-D91C-4735-B9F8-E487E51D23A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6B445F-7958-43FF-9CC0-50D966CC209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5AA9CE90-A113-4D2C-92CA-788E9EA5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926632A7-15E8-4967-8984-2E4F654DF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4C9A0DF0-3F33-45B4-B066-31B0970D11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C4D253-BCED-4111-A4B0-22D20DED89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8568A19A-5A16-4DB9-87AD-111417175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F8A03181-CC33-4852-B16D-77C064312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8013D124-69B8-45DB-A30C-F07C01A55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7B15A202-4D37-49FA-BF73-4B9368E69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71D08F87-4954-47F8-8109-66241A49B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62C71465-49F5-4E20-8F57-3C16DF94A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54F9D5A3-5FC0-47C9-BCF4-1FCAE7245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F315973F-145E-4A15-B49A-451D4CF55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682D75AC-E855-4ABF-A6C9-F67CE282A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001BAF44-6170-44F1-A0C3-382711467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BA5A10D4-A2CC-4326-A19F-95EEFC03A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09A9090C-3491-4DD5-92EB-2E96D86E9C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12B9794-AAD7-4792-B5BA-8DAB9949E79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41EDC55-9C2E-46DA-82EB-38A1B39E37D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C8D075-1A57-40AA-9D66-41BD4FEBD85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AA27B5D-AB23-448E-A311-5F0A22922A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37F0228-5E12-44BB-B7AA-B4FBD42DFB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2DB64493-77D4-4700-BC14-73313772E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288BA28-7E1D-4FC6-9D63-EE208356134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2F23751-7940-42BD-98D0-2CADF41E25D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BF635E-E9E7-45BA-96C3-22B954305D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28C4E5-A2AA-421A-AF73-8F18A2F36D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83FA604-5168-49E5-9BEA-03517142431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AC48F09-5F25-45A5-9E4A-617CAADE3D8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3F17B21-AD31-4611-B209-40BE323CFAA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AD1078A3-BF15-4599-9C18-DAFCF5FE1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B7645323-24DC-4F13-B3F6-A3F9C47DE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5BF94155-855A-454C-A527-ED276E4AE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A3C7B375-15B0-4C7D-AEFC-4927D42F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EB1FE268-7534-45C8-8833-E59EC8412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AE4FACF8-EC93-44A5-8CCD-8697CF3D6F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F739-3C2A-44D9-968B-4E2D4399599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6A59-720E-416B-B296-2CA52CD888A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EPTEMBER 2011</a:t>
            </a: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38A1-A400-4E98-AB96-6C77AC5C276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laccgps9-12.wikispaces.com/Skills+Latter+and+Strategies"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programs.ccsso.org/ccv/DC%202%20SP%2021.m4v"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teachingchannel.org/videos/evidence-arguments-lesson-plannin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teachingchannel.org/videos/literacy-analysis-lesson"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teachingchannel.org/videos/evidence-arguments-lesson-reflection"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6040" y="184320"/>
            <a:ext cx="6585120" cy="25063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000000"/>
                </a:solidFill>
                <a:latin typeface="Calibri"/>
              </a:rPr>
              <a:t>RESA/DOE</a:t>
            </a:r>
            <a:br>
              <a:rPr sz="2700"/>
            </a:br>
            <a:r>
              <a:rPr b="1" lang="en-US" sz="2700" spc="-1" strike="noStrike">
                <a:solidFill>
                  <a:srgbClr val="000000"/>
                </a:solidFill>
                <a:latin typeface="Calibri"/>
              </a:rPr>
              <a:t>SUMMER INSTITUTE</a:t>
            </a:r>
            <a:br>
              <a:rPr sz="2700"/>
            </a:br>
            <a:r>
              <a:rPr b="1" lang="en-US" sz="2600" spc="-1" strike="noStrike">
                <a:solidFill>
                  <a:srgbClr val="ffc000"/>
                </a:solidFill>
                <a:latin typeface="Calibri"/>
              </a:rPr>
              <a:t>COMMON CORE GEORGIA PERFORMANCE STANDARDS: IMPLEMENTING THE CCGPS IN 2012-13</a:t>
            </a:r>
            <a:endParaRPr b="1" lang="en-US" sz="2600" spc="-1" strike="noStrike">
              <a:solidFill>
                <a:srgbClr val="000000"/>
              </a:solidFill>
              <a:latin typeface="Calibri"/>
            </a:endParaRPr>
          </a:p>
        </p:txBody>
      </p:sp>
      <p:sp>
        <p:nvSpPr>
          <p:cNvPr id="138"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These Shifts Mean to Us?</a:t>
            </a:r>
            <a:endParaRPr b="1" lang="en-US" sz="3300" spc="-1" strike="noStrike">
              <a:solidFill>
                <a:srgbClr val="000000"/>
              </a:solidFill>
              <a:latin typeface="Calibri"/>
            </a:endParaRPr>
          </a:p>
        </p:txBody>
      </p:sp>
      <p:sp>
        <p:nvSpPr>
          <p:cNvPr id="15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ing the chart paper and markers, identify 3 ways in which this paradigm of instruction differs from what you (or other teachers in your environment) are doing now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scussion: what are the best ways to address making these shift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2040" y="204840"/>
            <a:ext cx="480708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 New Paradigm…</a:t>
            </a:r>
            <a:endParaRPr b="1" lang="en-US" sz="3300" spc="-1" strike="noStrike">
              <a:solidFill>
                <a:srgbClr val="000000"/>
              </a:solidFill>
              <a:latin typeface="Calibri"/>
            </a:endParaRPr>
          </a:p>
        </p:txBody>
      </p:sp>
      <p:sp>
        <p:nvSpPr>
          <p:cNvPr id="161" name=""/>
          <p:cNvSpPr txBox="1"/>
          <p:nvPr/>
        </p:nvSpPr>
        <p:spPr>
          <a:xfrm>
            <a:off x="347760" y="1172880"/>
            <a:ext cx="6254640" cy="3189240"/>
          </a:xfrm>
          <a:prstGeom prst="rect">
            <a:avLst/>
          </a:prstGeom>
          <a:noFill/>
          <a:ln w="0">
            <a:noFill/>
          </a:ln>
        </p:spPr>
        <p:txBody>
          <a:bodyPr lIns="68400" rIns="68400" tIns="34200" bIns="34200" anchor="t">
            <a:normAutofit fontScale="96000"/>
          </a:bodyPr>
          <a:p>
            <a:pPr marL="45360" indent="-45360">
              <a:spcBef>
                <a:spcPts val="42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000000"/>
                </a:solidFill>
                <a:latin typeface="Calibri"/>
              </a:rPr>
              <a:t>“</a:t>
            </a:r>
            <a:r>
              <a:rPr b="0" lang="en-US" sz="1700" spc="-1" strike="noStrike">
                <a:solidFill>
                  <a:srgbClr val="000000"/>
                </a:solidFill>
                <a:latin typeface="Calibri"/>
              </a:rPr>
              <a:t>Don’t just take your old state standards out of their boxes and swap in the Common Core Standards. [The Common Core state standards] are meant as a platform for a new instructional system, not a new list of topics for the old instructional system. […] When we turn standards into long lists and we tell teachers to ‘cover’ instead of to teach, when we give them pacing plans and tell them to cover everything on the test, we are ‘covering’ and not learning.” </a:t>
            </a:r>
            <a:endParaRPr b="0" lang="en-US" sz="1700" spc="-1" strike="noStrike">
              <a:solidFill>
                <a:srgbClr val="000000"/>
              </a:solidFill>
              <a:latin typeface="Calibri"/>
            </a:endParaRPr>
          </a:p>
          <a:p>
            <a:pPr marL="45360" indent="-45360">
              <a:spcBef>
                <a:spcPts val="326"/>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Phil Daro, </a:t>
            </a:r>
            <a:endParaRPr b="0" lang="en-US" sz="1300" spc="-1" strike="noStrike">
              <a:solidFill>
                <a:srgbClr val="000000"/>
              </a:solidFill>
              <a:latin typeface="Calibri"/>
            </a:endParaRPr>
          </a:p>
          <a:p>
            <a:pPr marL="45360" indent="-45360">
              <a:spcBef>
                <a:spcPts val="24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Calibri"/>
              </a:rPr>
              <a:t>        </a:t>
            </a:r>
            <a:r>
              <a:rPr b="0" lang="en-US" sz="1000" spc="-1" strike="noStrike">
                <a:solidFill>
                  <a:srgbClr val="000000"/>
                </a:solidFill>
                <a:latin typeface="Calibri"/>
              </a:rPr>
              <a:t>Strategic Education Research Partnership, Washington, D.C.</a:t>
            </a:r>
            <a:endParaRPr b="0" lang="en-US" sz="1000" spc="-1" strike="noStrike">
              <a:solidFill>
                <a:srgbClr val="000000"/>
              </a:solidFill>
              <a:latin typeface="Calibri"/>
            </a:endParaRPr>
          </a:p>
          <a:p>
            <a:pPr marL="45360" indent="-45360">
              <a:spcBef>
                <a:spcPts val="24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Calibri"/>
              </a:rPr>
              <a:t>        </a:t>
            </a:r>
            <a:r>
              <a:rPr b="0" lang="en-US" sz="1000" spc="-1" strike="noStrike">
                <a:solidFill>
                  <a:srgbClr val="000000"/>
                </a:solidFill>
                <a:latin typeface="Calibri"/>
              </a:rPr>
              <a:t>Common Core Author, Mathematics </a:t>
            </a:r>
            <a:endParaRPr b="0" lang="en-US" sz="1000" spc="-1" strike="noStrike">
              <a:solidFill>
                <a:srgbClr val="000000"/>
              </a:solidFill>
              <a:latin typeface="Calibri"/>
            </a:endParaRPr>
          </a:p>
          <a:p>
            <a:pPr marL="45360" indent="-4536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2400"/>
            </a:b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96520" y="200160"/>
            <a:ext cx="579132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ademic Vocabulary </a:t>
            </a:r>
            <a:endParaRPr b="1" lang="en-US" sz="3300" spc="-1" strike="noStrike">
              <a:solidFill>
                <a:srgbClr val="000000"/>
              </a:solidFill>
              <a:latin typeface="Calibri"/>
            </a:endParaRPr>
          </a:p>
        </p:txBody>
      </p:sp>
      <p:sp>
        <p:nvSpPr>
          <p:cNvPr id="163" name=""/>
          <p:cNvSpPr txBox="1"/>
          <p:nvPr/>
        </p:nvSpPr>
        <p:spPr>
          <a:xfrm>
            <a:off x="369720" y="1176120"/>
            <a:ext cx="6197760" cy="251460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hoose 5 words at random from this list at your tabl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 5 different documents in which a student might encounter this word</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 2 ways in which they might be compromised by not knowing this word</a:t>
            </a:r>
            <a:endParaRPr b="0" lang="en-US" sz="24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LA </a:t>
            </a:r>
            <a:r>
              <a:rPr b="1" lang="en-US" sz="3300" spc="-1" strike="noStrike" u="sng">
                <a:solidFill>
                  <a:srgbClr val="0070c0"/>
                </a:solidFill>
                <a:uFillTx/>
                <a:latin typeface="Calibri"/>
                <a:hlinkClick r:id="rId1"/>
              </a:rPr>
              <a:t>WIKI</a:t>
            </a:r>
            <a:r>
              <a:rPr b="1" lang="en-US" sz="3300" spc="-1" strike="noStrike">
                <a:solidFill>
                  <a:srgbClr val="000000"/>
                </a:solidFill>
                <a:latin typeface="Calibri"/>
              </a:rPr>
              <a:t>! </a:t>
            </a:r>
            <a:endParaRPr b="1" lang="en-US" sz="3300" spc="-1" strike="noStrike">
              <a:solidFill>
                <a:srgbClr val="000000"/>
              </a:solidFill>
              <a:latin typeface="Calibri"/>
            </a:endParaRPr>
          </a:p>
        </p:txBody>
      </p:sp>
      <p:pic>
        <p:nvPicPr>
          <p:cNvPr id="165" name="Picture 4" descr=""/>
          <p:cNvPicPr/>
          <p:nvPr/>
        </p:nvPicPr>
        <p:blipFill>
          <a:blip r:embed="rId2"/>
          <a:srcRect l="1810" t="25483" r="1352" b="6463"/>
          <a:stretch/>
        </p:blipFill>
        <p:spPr>
          <a:xfrm>
            <a:off x="414360" y="1127160"/>
            <a:ext cx="6245280" cy="27432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167"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275D-DA4B-470E-A100-1B844DA9E51C}"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8103-E244-46BC-8E63-BAC94F320E5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9240" y="311040"/>
            <a:ext cx="521172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ommon Core State Standards</a:t>
            </a:r>
            <a:endParaRPr b="1" lang="en-US" sz="3300" spc="-1" strike="noStrike">
              <a:solidFill>
                <a:srgbClr val="000000"/>
              </a:solidFill>
              <a:latin typeface="Calibri"/>
            </a:endParaRPr>
          </a:p>
        </p:txBody>
      </p:sp>
      <p:sp>
        <p:nvSpPr>
          <p:cNvPr id="140" name=""/>
          <p:cNvSpPr txBox="1"/>
          <p:nvPr/>
        </p:nvSpPr>
        <p:spPr>
          <a:xfrm>
            <a:off x="248760" y="1209240"/>
            <a:ext cx="4303800" cy="3189240"/>
          </a:xfrm>
          <a:prstGeom prst="rect">
            <a:avLst/>
          </a:prstGeom>
          <a:noFill/>
          <a:ln w="0">
            <a:noFill/>
          </a:ln>
        </p:spPr>
        <p:txBody>
          <a:bodyPr lIns="68400" rIns="68400" tIns="34200" bIns="34200" anchor="t">
            <a:normAutofit/>
          </a:bodyPr>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Geneva"/>
              </a:rPr>
              <a:t>Building on the strength of current state standards, the CCSS are designed to be:</a:t>
            </a: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cused, coherent, clear, and rigorous</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Internationally benchmarked</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Anchored in college and career readiness </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Evidence and research based</a:t>
            </a:r>
            <a:endParaRPr b="0" lang="en-US" sz="2000" spc="-1" strike="noStrike">
              <a:solidFill>
                <a:srgbClr val="000000"/>
              </a:solidFill>
              <a:latin typeface="Calibri"/>
            </a:endParaRPr>
          </a:p>
        </p:txBody>
      </p:sp>
      <p:pic>
        <p:nvPicPr>
          <p:cNvPr id="141" name="Picture 4" descr=""/>
          <p:cNvPicPr/>
          <p:nvPr/>
        </p:nvPicPr>
        <p:blipFill>
          <a:blip r:embed="rId1"/>
          <a:stretch/>
        </p:blipFill>
        <p:spPr>
          <a:xfrm>
            <a:off x="4311720" y="1825560"/>
            <a:ext cx="2428920" cy="15620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2"/>
          <p:cNvSpPr/>
          <p:nvPr/>
        </p:nvSpPr>
        <p:spPr>
          <a:xfrm>
            <a:off x="507960" y="0"/>
            <a:ext cx="601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ON CORE FRAMERS: WHAT IS </a:t>
            </a:r>
            <a:r>
              <a:rPr b="0" lang="en-US" sz="2800" spc="-1" strike="noStrike" u="sng">
                <a:solidFill>
                  <a:srgbClr val="0070c0"/>
                </a:solidFill>
                <a:uFillTx/>
                <a:latin typeface="Calibri"/>
                <a:hlinkClick r:id="rId1"/>
              </a:rPr>
              <a:t>NEW</a:t>
            </a:r>
            <a:r>
              <a:rPr b="1" lang="en-US" sz="2800" spc="-1" strike="noStrike">
                <a:solidFill>
                  <a:srgbClr val="000000"/>
                </a:solidFill>
                <a:latin typeface="Calibri"/>
              </a:rPr>
              <a:t> ABOUT THE COMMON CORE? </a:t>
            </a:r>
            <a:endParaRPr b="0" lang="en-US" sz="2800" spc="-1" strike="noStrike">
              <a:solidFill>
                <a:srgbClr val="5f5f5f"/>
              </a:solidFill>
              <a:latin typeface="Arial"/>
            </a:endParaRPr>
          </a:p>
        </p:txBody>
      </p:sp>
      <p:pic>
        <p:nvPicPr>
          <p:cNvPr id="143" name="Picture 3" descr=""/>
          <p:cNvPicPr/>
          <p:nvPr/>
        </p:nvPicPr>
        <p:blipFill>
          <a:blip r:embed="rId2"/>
          <a:stretch/>
        </p:blipFill>
        <p:spPr>
          <a:xfrm>
            <a:off x="1195560" y="1058760"/>
            <a:ext cx="4616280" cy="3014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387360" y="480960"/>
            <a:ext cx="6134040" cy="4240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TUDENTS READ: complexity, range, informational text across curriculum and in ELA</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HEY READ IT: analyze, make claims, back those claims with evidence </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TO SOURCES</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SYNTHESIS OF SOURCES: more short/shared projects not sustained projects</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UM ON ARGUMENT, both written and oral, understanding fallacies, rhetoric</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VOCABULARY language of power – words across disciplines </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45" name="TextBox 2"/>
          <p:cNvSpPr/>
          <p:nvPr/>
        </p:nvSpPr>
        <p:spPr>
          <a:xfrm>
            <a:off x="461880" y="0"/>
            <a:ext cx="584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Shifts in Common Core </a:t>
            </a:r>
            <a:endParaRPr b="0" lang="en-US" sz="3200" spc="-1" strike="noStrike">
              <a:solidFill>
                <a:srgbClr val="5f5f5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es This Lesson Touch on Any or All of The </a:t>
            </a:r>
            <a:r>
              <a:rPr b="1" lang="en-US" sz="3300" spc="-1" strike="noStrike" u="sng">
                <a:solidFill>
                  <a:srgbClr val="0070c0"/>
                </a:solidFill>
                <a:uFillTx/>
                <a:latin typeface="Calibri"/>
                <a:hlinkClick r:id="rId1"/>
              </a:rPr>
              <a:t>Shifts</a:t>
            </a:r>
            <a:r>
              <a:rPr b="1" lang="en-US" sz="3300" spc="-1" strike="noStrike">
                <a:solidFill>
                  <a:srgbClr val="000000"/>
                </a:solidFill>
                <a:latin typeface="Calibri"/>
              </a:rPr>
              <a:t>? </a:t>
            </a:r>
            <a:endParaRPr b="1" lang="en-US" sz="3300" spc="-1" strike="noStrike">
              <a:solidFill>
                <a:srgbClr val="000000"/>
              </a:solidFill>
              <a:latin typeface="Calibri"/>
            </a:endParaRPr>
          </a:p>
        </p:txBody>
      </p:sp>
      <p:pic>
        <p:nvPicPr>
          <p:cNvPr id="147" name="Picture 2" descr=""/>
          <p:cNvPicPr/>
          <p:nvPr/>
        </p:nvPicPr>
        <p:blipFill>
          <a:blip r:embed="rId2"/>
          <a:srcRect l="18410" t="29211" r="36744" b="18912"/>
          <a:stretch/>
        </p:blipFill>
        <p:spPr>
          <a:xfrm>
            <a:off x="1330200" y="1177920"/>
            <a:ext cx="4267440" cy="3084480"/>
          </a:xfrm>
          <a:prstGeom prst="rect">
            <a:avLst/>
          </a:prstGeom>
          <a:ln w="0">
            <a:noFill/>
          </a:ln>
        </p:spPr>
      </p:pic>
      <p:sp>
        <p:nvSpPr>
          <p:cNvPr id="148" name="TextBox 4"/>
          <p:cNvSpPr/>
          <p:nvPr/>
        </p:nvSpPr>
        <p:spPr>
          <a:xfrm>
            <a:off x="5754600" y="3333600"/>
            <a:ext cx="97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notes!</a:t>
            </a:r>
            <a:endParaRPr b="0" lang="en-US" sz="12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000000"/>
                </a:solidFill>
                <a:latin typeface="Calibri"/>
              </a:rPr>
              <a:t>Jigsaw!</a:t>
            </a:r>
            <a:br>
              <a:rPr sz="3600"/>
            </a:br>
            <a:endParaRPr b="1" lang="en-US" sz="3200" spc="-1" strike="noStrike">
              <a:solidFill>
                <a:srgbClr val="000000"/>
              </a:solidFill>
              <a:latin typeface="Calibri"/>
            </a:endParaRPr>
          </a:p>
        </p:txBody>
      </p:sp>
      <p:sp>
        <p:nvSpPr>
          <p:cNvPr id="150" name=""/>
          <p:cNvSpPr txBox="1"/>
          <p:nvPr/>
        </p:nvSpPr>
        <p:spPr>
          <a:xfrm>
            <a:off x="347760" y="693360"/>
            <a:ext cx="6254640" cy="318780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unt off from 1-3; number 1’s get together, 2’s, and 3’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e the Unit Plans provided, the materials/ knowledge from the classes you attended today, and your notes from the film (we can replay the film if you’d lik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roup 1, fill each column Units, Group 2 for today’s classes, and Group 3 for the fil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hare! </a:t>
            </a:r>
            <a:endParaRPr b="1" lang="en-US" sz="3300" spc="-1" strike="noStrike">
              <a:solidFill>
                <a:srgbClr val="000000"/>
              </a:solidFill>
              <a:latin typeface="Calibri"/>
            </a:endParaRPr>
          </a:p>
        </p:txBody>
      </p:sp>
      <p:sp>
        <p:nvSpPr>
          <p:cNvPr id="152" name=""/>
          <p:cNvSpPr txBox="1"/>
          <p:nvPr/>
        </p:nvSpPr>
        <p:spPr>
          <a:xfrm>
            <a:off x="366840" y="942480"/>
            <a:ext cx="6254640" cy="646200"/>
          </a:xfrm>
          <a:prstGeom prst="rect">
            <a:avLst/>
          </a:prstGeom>
          <a:noFill/>
          <a:ln w="0">
            <a:noFill/>
          </a:ln>
        </p:spPr>
        <p:txBody>
          <a:bodyPr lIns="68400" rIns="68400" tIns="34200" bIns="34200" anchor="t">
            <a:normAutofit fontScale="94000"/>
          </a:bodyPr>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Representatives from each group, share an overview of what you found</a:t>
            </a: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pic>
        <p:nvPicPr>
          <p:cNvPr id="153" name="Picture 5" descr="http://www.buzzle.com/img/articleImages/395385-13026-35.jpg"/>
          <p:cNvPicPr/>
          <p:nvPr/>
        </p:nvPicPr>
        <p:blipFill>
          <a:blip r:embed="rId1"/>
          <a:stretch/>
        </p:blipFill>
        <p:spPr>
          <a:xfrm>
            <a:off x="1603440" y="1684440"/>
            <a:ext cx="3619440" cy="24098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000000"/>
                </a:solidFill>
                <a:latin typeface="Calibri"/>
              </a:rPr>
              <a:t>Let’s Watch This </a:t>
            </a:r>
            <a:r>
              <a:rPr b="1" lang="en-US" sz="3200" spc="-1" strike="noStrike" u="sng">
                <a:solidFill>
                  <a:srgbClr val="0070c0"/>
                </a:solidFill>
                <a:uFillTx/>
                <a:latin typeface="Calibri"/>
                <a:hlinkClick r:id="rId1"/>
              </a:rPr>
              <a:t>Lesson</a:t>
            </a:r>
            <a:r>
              <a:rPr b="1" lang="en-US" sz="3200" spc="-1" strike="noStrike">
                <a:solidFill>
                  <a:srgbClr val="000000"/>
                </a:solidFill>
                <a:latin typeface="Calibri"/>
              </a:rPr>
              <a:t> Unfold: </a:t>
            </a:r>
            <a:br>
              <a:rPr sz="3600"/>
            </a:br>
            <a:endParaRPr b="1" lang="en-US" sz="3200" spc="-1" strike="noStrike">
              <a:solidFill>
                <a:srgbClr val="000000"/>
              </a:solidFill>
              <a:latin typeface="Calibri"/>
            </a:endParaRPr>
          </a:p>
        </p:txBody>
      </p:sp>
      <p:pic>
        <p:nvPicPr>
          <p:cNvPr id="155" name="Picture 2" descr=""/>
          <p:cNvPicPr/>
          <p:nvPr/>
        </p:nvPicPr>
        <p:blipFill>
          <a:blip r:embed="rId2"/>
          <a:srcRect l="18561" t="39151" r="36891" b="8121"/>
          <a:stretch/>
        </p:blipFill>
        <p:spPr>
          <a:xfrm>
            <a:off x="1357200" y="882720"/>
            <a:ext cx="4165560" cy="30812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0680" y="0"/>
            <a:ext cx="625500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u="sng">
                <a:solidFill>
                  <a:srgbClr val="0070c0"/>
                </a:solidFill>
                <a:uFillTx/>
                <a:latin typeface="Calibri"/>
                <a:hlinkClick r:id="rId1"/>
              </a:rPr>
              <a:t>Lesson</a:t>
            </a:r>
            <a:r>
              <a:rPr b="1" lang="en-US" sz="3300" spc="-1" strike="noStrike">
                <a:solidFill>
                  <a:srgbClr val="000000"/>
                </a:solidFill>
                <a:latin typeface="Calibri"/>
              </a:rPr>
              <a:t> Part II</a:t>
            </a:r>
            <a:endParaRPr b="1" lang="en-US" sz="3300" spc="-1" strike="noStrike">
              <a:solidFill>
                <a:srgbClr val="000000"/>
              </a:solidFill>
              <a:latin typeface="Calibri"/>
            </a:endParaRPr>
          </a:p>
        </p:txBody>
      </p:sp>
      <p:pic>
        <p:nvPicPr>
          <p:cNvPr id="157" name="Picture 4" descr="http://2.bp.blogspot.com/-beZWFTZQbWU/T6dOS9Z7--I/AAAAAAAAE6w/AoYoM80kIQg/s1600/OddReflection1.jpg"/>
          <p:cNvPicPr/>
          <p:nvPr/>
        </p:nvPicPr>
        <p:blipFill>
          <a:blip r:embed="rId2"/>
          <a:stretch/>
        </p:blipFill>
        <p:spPr>
          <a:xfrm>
            <a:off x="1174680" y="934920"/>
            <a:ext cx="4748400" cy="3165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3T17:43:18Z</dcterms:modified>
  <cp:revision>354</cp:revision>
  <dc:subject/>
  <dc:title>PowerPoint Presentation</dc:title>
</cp:coreProperties>
</file>